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B0D1A-FF82-41B2-B022-206429D15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C7587-7781-4442-91D5-AC2742D40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717A1-D891-43EE-A34F-999960C63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495AB-7B95-4A0C-9284-9747658E6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60C00-4894-47E5-A808-F0EBCC70C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BC6F3-3F2F-4993-8367-CEDBA2822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6B8E0-1645-4561-B550-977071CEC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27A23-3AE4-4F93-8E19-E5DB60B41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9CBD3-7C4A-48C7-86A3-3F53AC06A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8464D-646B-4BF3-9FEC-F32B18206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BDF81-CF34-4592-AA9B-C977603D6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F908A-C7C8-4C21-A2B2-6B7BC8D0B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340AB-F7CB-40B6-8275-669E0FE4F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917A6-CF5F-4B4B-B9CE-7C360EFD3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D9B38-2889-436D-A8ED-A6DE1EB47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39D1F-76C6-4041-B49F-4DC8E2527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467E3-E46B-443D-8E2D-D41A637E1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09CF6-4224-4D1C-835F-078908C99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8C46E-720F-4066-84BD-08F82E3CD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CD448-4042-4A57-81A4-607E7A3B3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8147E-FC70-4440-B9AF-D27BA6E3C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38D0D-8A88-4C74-B7E2-33C88B378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40D80-9BA6-449B-AAC5-6BD45CF97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83953-063E-48AC-A190-1E2FBBED1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80077-C7D2-42FE-B54C-AA442FE559D0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1B2C9-7155-42D6-833C-9D27AD5010A3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7495C-622E-4858-843F-8E7F390D864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80880" y="182520"/>
            <a:ext cx="8610840" cy="4084560"/>
          </a:xfrm>
          <a:prstGeom prst="rect">
            <a:avLst/>
          </a:prstGeom>
          <a:ln w="0">
            <a:noFill/>
          </a:ln>
        </p:spPr>
      </p:pic>
      <p:grpSp>
        <p:nvGrpSpPr>
          <p:cNvPr id="132" name=""/>
          <p:cNvGrpSpPr/>
          <p:nvPr/>
        </p:nvGrpSpPr>
        <p:grpSpPr>
          <a:xfrm>
            <a:off x="533520" y="4187880"/>
            <a:ext cx="7924680" cy="2079720"/>
            <a:chOff x="533520" y="4187880"/>
            <a:chExt cx="7924680" cy="2079720"/>
          </a:xfrm>
        </p:grpSpPr>
        <p:sp>
          <p:nvSpPr>
            <p:cNvPr id="133" name=""/>
            <p:cNvSpPr/>
            <p:nvPr/>
          </p:nvSpPr>
          <p:spPr>
            <a:xfrm>
              <a:off x="832320" y="4187880"/>
              <a:ext cx="751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Line Emission Spectrum of Hydrogen Atom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" descr=""/>
            <p:cNvPicPr/>
            <p:nvPr/>
          </p:nvPicPr>
          <p:blipFill>
            <a:blip r:embed="rId2"/>
            <a:stretch/>
          </p:blipFill>
          <p:spPr>
            <a:xfrm>
              <a:off x="533520" y="4648320"/>
              <a:ext cx="7924680" cy="161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90A22-4EF3-4083-971F-880555AFA70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195640" y="1052640"/>
            <a:ext cx="5329080" cy="51624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859280" y="47628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59280" y="249228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907920"/>
            <a:ext cx="3603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2852640"/>
            <a:ext cx="3603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4DAC6-573A-4BFB-BDA0-CDDCB6A29E0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3628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energies of the electron in the H atom are given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 = 1 Ground State </a:t>
            </a:r>
            <a:r>
              <a:rPr b="1" lang="ar-SA" sz="3200" spc="-1" strike="noStrike">
                <a:solidFill>
                  <a:srgbClr val="9900cc"/>
                </a:solidFill>
                <a:latin typeface="Comic Sans MS"/>
              </a:rPr>
              <a:t>الحاله الارضيه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 = 2, 3, 4, … Excited States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ar-SA" sz="3200" spc="-1" strike="noStrike">
                <a:solidFill>
                  <a:srgbClr val="a50021"/>
                </a:solidFill>
                <a:latin typeface="Comic Sans MS"/>
              </a:rPr>
              <a:t>الحالات المثاره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971640" y="1773360"/>
                <a:ext cx="7848360" cy="290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Rydberg constant 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integer called the principal quantum number;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, 2, 3,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8DC49-8605-4EB0-953B-5A2E974DD99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983040" y="765000"/>
            <a:ext cx="5126040" cy="5616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324000" y="620640"/>
                <a:ext cx="3905280" cy="525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ΔE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324000" y="4653000"/>
            <a:ext cx="3024000" cy="122400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C2FD5-C59D-44D4-ACFF-CAB57442CD1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95280" y="1015920"/>
                <a:ext cx="3024360" cy="126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E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539640" y="3141720"/>
            <a:ext cx="8353440" cy="35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If n</a:t>
            </a:r>
            <a:r>
              <a:rPr b="1" lang="en-GB" sz="3600" spc="-1" strike="noStrike" baseline="-25000">
                <a:solidFill>
                  <a:srgbClr val="a50021"/>
                </a:solidFill>
                <a:latin typeface="Comic Sans MS"/>
              </a:rPr>
              <a:t>f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 &gt; n</a:t>
            </a:r>
            <a:r>
              <a:rPr b="1" lang="en-GB" sz="36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 →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(+ve) →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l-GR" sz="3600" spc="-1" strike="noStrike">
                <a:solidFill>
                  <a:srgbClr val="a50021"/>
                </a:solidFill>
                <a:latin typeface="Comic Sans MS"/>
              </a:rPr>
              <a:t>Δ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E (+ve)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→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 Energy is absorbed</a:t>
            </a:r>
            <a:r>
              <a:rPr b="0" lang="en-GB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If n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i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 &gt; n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f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 →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(-ve) →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l-GR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Δ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E (-ve)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→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 Energy is emitted</a:t>
            </a:r>
            <a:r>
              <a:rPr b="0" lang="en-GB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291280" y="1052640"/>
            <a:ext cx="21715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291280" y="2276640"/>
            <a:ext cx="21715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588000" y="1052640"/>
            <a:ext cx="0" cy="1224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722920" y="1052640"/>
            <a:ext cx="0" cy="1224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659640" y="134136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nergy absor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27640" y="112536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Energy emit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284720" y="691920"/>
            <a:ext cx="0" cy="1942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780000" y="1413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443640" y="217980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443640" y="59544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524560" y="62064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24560" y="217980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B1D27-6754-496B-954E-1EF0F5E4608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95280" y="333360"/>
            <a:ext cx="813744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4 p28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What is the wavelength of a photon (in nm) emitted during a transition from the n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= 5 state to the n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f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= 2 state in the hydrogen at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2920" y="2421000"/>
            <a:ext cx="889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8000" y="2492280"/>
            <a:ext cx="88930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5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2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gt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→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DFKai-SB"/>
              </a:rPr>
              <a:t>Δ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 =-ve (energy is emitt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in nm)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4037040" y="4149720"/>
                <a:ext cx="2943360" cy="222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ΔE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F4062-D358-4047-90CB-939442507E4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79280" y="549360"/>
                <a:ext cx="7848720" cy="55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5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Δ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⇒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ΔE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 x 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0 x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8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34 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5508720" y="5157720"/>
            <a:ext cx="345600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66"/>
                </a:solidFill>
                <a:latin typeface="Comic Sans MS"/>
              </a:rPr>
              <a:t>لاحظي ان الطاقه اخذت باشاره موجبه لان الطول الموجي لايمكن ان يكون قيمه سالبه</a:t>
            </a:r>
            <a:r>
              <a:rPr b="1" lang="ar-SA" sz="2400" spc="-1" strike="noStrike">
                <a:solidFill>
                  <a:srgbClr val="003366"/>
                </a:solidFill>
                <a:latin typeface="Comic Sans MS"/>
              </a:rPr>
              <a:t>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23514-B90E-486A-BAF8-AC805991086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Plank’s Quantum The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66358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en solids are heated, they emit electromagnetic ra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ACT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amount of radiant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energy emitted by an object at a certain temperature DEPENDS on the WAVELEN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lassical physics failed in explaining why this happen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lassical physics: assumed that atoms or molecules could emit (or absorb) any amount of energy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lank explain this: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nergy (light) is emitted or absorbed in discrete units (quantum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C:\Documents and Settings\DELL-XPS\Desktop\chem110\Max_Planck.png"/>
          <p:cNvPicPr/>
          <p:nvPr/>
        </p:nvPicPr>
        <p:blipFill>
          <a:blip r:embed="rId1"/>
          <a:stretch/>
        </p:blipFill>
        <p:spPr>
          <a:xfrm>
            <a:off x="7524720" y="4581360"/>
            <a:ext cx="1403280" cy="2087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020000" y="127008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7091280" y="44280"/>
            <a:ext cx="1728720" cy="113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68902-2B26-4601-84AD-3DFE1591E3B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9152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Quantum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s the smallest quantity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nergy that can be emitted (or absorb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 the form of electromagnetic radi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Quantum is given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er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: is the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: Plank’s constant, h = 6.63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3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J.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frequency of ra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Quantum Theory: energy is always emitted in integrals multiples of 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2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3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…………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50920" y="2532240"/>
                <a:ext cx="424980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hν</m:t>
                    </m:r>
                    <m:r>
                      <m:t xml:space="preserve">⇒</m:t>
                    </m:r>
                    <m:r>
                      <m:t xml:space="preserve">E</m:t>
                    </m:r>
                    <m:r>
                      <m:t xml:space="preserve">∝</m:t>
                    </m:r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716360" y="2060640"/>
            <a:ext cx="2952720" cy="22114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740720" y="2852640"/>
            <a:ext cx="187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Quantization Princip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652BB-A4A1-42D1-B056-9129E087F55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3628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195640" y="836640"/>
                <a:ext cx="3654360" cy="576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</m:e>
                      <m:e>
                        <m:r>
                          <m:t xml:space="preserve">E</m:t>
                        </m:r>
                        <m:r>
                          <m:t xml:space="preserve">=</m:t>
                        </m:r>
                        <m:r>
                          <m:t xml:space="preserve">hν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92EBC-49CC-4E94-AB29-27E5B0341E0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937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2 p280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alculate the energy (in J) of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(a) a photon with a wavelength of 5.00 x 10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nm (IR region)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(b) a photon with a wavelength of 5.00 x 10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-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nm (X-ray region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3213000"/>
            <a:ext cx="828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5280" y="3284640"/>
            <a:ext cx="77058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=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n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algun Gothic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-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= 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-5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m → E (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b)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n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1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 → E (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AB355-11E1-4F88-9642-41391C1A3FB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68360" y="549360"/>
                <a:ext cx="8064360" cy="20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 </m:t>
                            </m:r>
                            <m:r>
                              <m:t xml:space="preserve">x</m:t>
                            </m:r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68360" y="3141720"/>
                <a:ext cx="8136000" cy="20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 </m:t>
                            </m:r>
                            <m:r>
                              <m:t xml:space="preserve">x</m:t>
                            </m:r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76C06-245B-42B5-8153-5CD10149929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7.3 Bohr’s Theory of Hydrogen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mission Spectr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f atoms are brigh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lin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(spectral lines) in the visible spect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mission spectrum of any atom is a finger print (lines appeared at specific wavelength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CC2C2-25B4-40EF-B624-D577FC95D76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39640" y="835200"/>
            <a:ext cx="8088480" cy="5883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547640" y="379440"/>
            <a:ext cx="64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Comic Sans MS"/>
              </a:rPr>
              <a:t>Emission Spectra of som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97702-0EB7-42C1-8815-27200E80018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617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Emission spectrum of Hydrogen Atom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eil Bohr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tudy the emission spectrum of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Hydrogen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hr postulates that the electron is occupied ONLY certain orbits of specific energi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The energies of the electron are quant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S: the emission spectrum of the H atom results from: the hydrogen atom is energis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ectron excited to higher energy orbi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rop to a lower-energy orbit emits a quantum of energy (ligh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842240" y="44280"/>
            <a:ext cx="1160640" cy="165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D7286-C944-483B-B0B7-B8A686CAAE4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8T20:14:15Z</dcterms:modified>
  <cp:revision>940</cp:revision>
  <dc:subject/>
  <dc:title>General Chemistry CHEM 110</dc:title>
</cp:coreProperties>
</file>